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E2D-5CF0-478B-AB6B-F149935A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E4B-A9ED-48DF-BD12-C0D806CF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FFB12-172C-4A2F-945E-97647031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20FED-8EAD-411F-BF2A-4FAF6222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8EBA-BB5F-4EEE-8347-CB76A9C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3299C-F3A6-4703-A03A-163AA2B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C50F-F4F5-40B5-A7C7-DE7055A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55EE-894E-42C5-AF18-8BCF9DB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6157-196E-41F9-951B-265D37A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B2A6-4A07-4C6B-B5CC-F0412261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B2E7E-86CA-4FF8-B6B2-858DA298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299ED-349B-404F-8E1F-A2101882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6FA-9ECD-4A51-89FB-27EE9330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78A6A-9E4F-4D93-97EF-43A7E00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F05CD-C623-464C-91B2-2F73221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09E1-CEA4-41E8-929E-E15CF52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EBF6-DC66-4E4C-BAF6-F7B86D0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5254A-4B77-45B1-8530-63DFF2A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E72F-8B8D-4861-9631-C9DBD7E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675F2-4BF4-4E95-B792-0F93873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C763D-D949-4354-AD61-50CD50F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4DE3-FD37-4B95-8DA0-68F2A93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61BD5-A532-4A82-9C8F-41BC95E1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F67-8E5F-4AB5-AAAC-12817FA3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65F0-AE4A-467C-AB5A-E0B5456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E8AA-6EB8-4F46-9820-BB3AED65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B5F0-25EA-4B96-B948-CAB4A41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5B3A6-8BFC-4F94-8241-F7E38131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E5DD-04FF-42F6-89E3-4E70E2B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3EE4D-3B0A-476F-8F80-D336F07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277CD-65A8-4305-B1F9-785F59C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C6A15-BB99-4708-8A09-A57EEDD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C3957-33E6-4998-87C2-CD82490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70D7C-9866-4395-B5BC-DB65561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4371-A88D-456F-979A-EB18DF00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90E2-4AA8-4E65-9FDB-5BA76FCB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437A6-76D5-4ADB-9799-CD59935B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CE4D-F3CB-41D7-9EA6-24F896CB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E789B-C7AD-4D92-B5DB-C59B17D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C76D-5C03-4431-8298-C6612A33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66EC5-7BF2-4472-857C-ADD3D73E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757FB-F734-4F13-B589-E0B2CB1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BEBBA-424A-41E5-97E0-ED9E137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6498B-4F91-4068-A0DA-349F169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6D435-85E3-4C26-BA00-1CEACCFE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F9A5-71E2-4C5D-BB0D-D47F9B1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1256F-974E-4FE4-ABEF-B837E53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B971E-4A96-4627-874A-1BFD013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7363D-67BD-41D3-AC81-17D8406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B8EA3-B787-4E7C-8FDC-39113E3D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49FF0-C2DA-4320-84A9-C5EC6ECD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AD2C-D079-498F-ABD0-BDDE956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2CE-97AD-48FB-96A0-0D7707E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916E-3FFC-439F-975C-CAA56B8E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1835-6A3F-4AE2-94C2-7D311D0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C8E-1E47-4C7E-B231-511A227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303-63E2-464E-AD11-D0D4919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E96-4DCC-4C59-9DD9-00D1E97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012-8A6D-44B7-97C4-41CC4E9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162D-F3B4-429C-B32C-C006AA60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838D-D003-4D97-909E-50965479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17BC-2AD9-4CFC-BA22-62E4855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0433-1AC7-46C9-9F1A-8BCD1841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EEE6-D974-467F-B80C-A8E20D2E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2D0F-ACF9-46F5-BE9E-2FFDB62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DFEE-3CC9-4967-B3D5-E360140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832E-2F1E-4B09-83BC-E4B2D51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307-9979-4621-9370-682CB7C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159F-F821-45CC-B4A1-E8186868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6A2C-DDB3-429F-A388-CFA08CA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A049-192B-4320-96E7-91A5E82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370F-4ECD-4828-AD6F-DAC2B24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4235-15F7-4093-A2F5-02EF634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D266-282F-4856-955C-5BD1260E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3E39-93C3-43D1-8604-5245EAC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9DFF-CB74-4E3E-81D2-10A2E7E5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2C33-5CF7-4C99-8197-B47DF9DC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7992-4CAA-4F0B-B666-2B7C19A5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076-E01B-4B2E-8623-6671CC0C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5842-942F-46E8-8F8F-8B514F7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FE78-B678-479F-95B3-185988FD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4015-6D6A-4172-89DF-5DA36152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3D6C-63DC-4E53-B243-C6512A0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8471D-8ACE-408E-8EA4-81D435A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1CF4-FB20-49DC-A476-F08ECD0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C6CE-C71C-4D0B-9F7D-1C175D1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5CDA-E8FF-45BC-9345-92A47A5E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B0E8-226E-4A45-A04A-B2E88D8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201F-8D8F-4EE9-BFAE-F6F6A390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BEE-F312-44CE-872B-607F771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375B-518B-4048-9B17-A13F2BA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77127-74AF-418A-90F3-EFF8435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38FB-6FD8-465C-80C3-B55F0F6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6BBF-07F2-4DE7-B859-147CC4C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8E1F-5A95-4A49-9F0E-3B610B1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F0FC-CB31-48C6-8EC8-C032C2D4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8740-FD0F-41F9-9D80-9A06A54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24AC-D812-4A09-8C62-CAE7AF65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977F-A2E3-443F-A855-DB81FB8C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3047-380A-44BE-9E4C-BABA210A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E45-B40E-4757-84C2-0943C27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1739-F62F-48D5-B2EE-F717285A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1379-3CBE-421F-AB66-5987FC6F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B30C-D30B-426B-A9D0-2491B4B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3868-0FFA-457C-82E1-2B1DC92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ED1AF-D04B-49F0-9293-158DF44E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CD5B-77C0-4A54-92FB-6CB177A5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A296-B55C-4542-8DD3-0DED830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178C-26ED-407B-B46B-473A28F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88F3-190B-4A91-85A4-740951C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DD1C-1FD0-4B5C-AD2D-C2A967E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47-AE24-4F5E-A769-DA8A0AC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1DCE-82D2-47CF-9323-B3971E7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2C67-4C8C-4D7D-B179-84434D1C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F2BC-7922-4788-B8BE-E5E660B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1C46-02FD-4E20-96D4-AB75722C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CFE1-F37D-481D-B612-3886FDB2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153DF-F4EB-4A59-B8FF-DDF0CBC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2E67-214F-406E-9C3B-E0C14F00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721D-F80E-4E1A-BF06-C024B57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86AEC-8D9D-4105-9AFC-9FBD812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4793-F585-494A-99BB-C78008C1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9F-CEF4-4ECB-AB31-6F77729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8C5FF-50CD-4425-9D0A-470A30F0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16DA-FA12-4693-9755-D157C01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3D79-469E-4B2D-A10D-691ED9A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C1A8-568D-4C66-99EE-4D100C35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388A-BA82-48B8-A35B-2054FDC3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CA750-62C1-471D-B4F0-0A08E91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1BC61-B65A-41AE-A765-3A8239C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4386-5A92-4A7A-AD87-5415A02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C583-C09A-4EB0-9C1B-0EE9E51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A0F20-A7E2-44CF-82CE-3DBFBED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6BE-F109-433D-85BC-BD76E47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9046-CE44-451D-B414-96DA5D3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9063-6F56-41E6-A814-F723718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E010-4738-4862-B312-BF8AEFA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F3757-B1A2-4FC5-A7FC-09EADB0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201F-8581-4A90-9100-796BA6B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06DE-2317-4385-B5D5-734A92A9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DACF3-2F85-4C79-A9D9-153BB81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1A115-362E-449F-B5E2-F6540B35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5FA0-E33E-46FA-8F4C-6EEF4A65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11D83-AEE1-44FF-8D8D-B1D5C761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BEE-3B62-41B7-8D26-6ED54A7108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850-D2F2-4D22-9E4E-B8813084FB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501B-5CA6-4B24-BAD5-9FA6FDDCD9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FAA-A71F-4EC3-9164-BCD782CD22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9E0-CE88-46A9-9DFC-C46F4A568B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DD9-C4B2-458B-9632-0C5D2E21F0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63D-3738-4B45-96AD-6BFDA5F2BF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636-9559-4D4E-9F2D-AF1B0CD7A1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C84-9A8C-4D8B-BAB1-4B51B6D42A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92DD-C0C3-4A21-A59C-FA51D39D56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ECA-F156-47D9-9D1B-704AFA8E8C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AFCE-D3B2-4C4F-88F3-F7AFBE00BB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3 Ty, Vládca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Vládca vše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nebi trón svoj m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, deťom pozemsk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 láskou prizn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chrániť našu otči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j svojich detí rodi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po dni, každú hodin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bol si, Kriste, sá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dieťa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pomôž byť aj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deťmi vďačný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sť chceme z Bož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dľa tvojej múdr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utvrď, Pane, v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svätý Teš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ásky roznieť  p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nás zrieť vier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javil Ježi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k nemu veď a pravdou chrá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j v našom dome mieru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a vôľa vždy sa sta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6:20Z</dcterms:modified>
  <cp:revision>75</cp:revision>
  <dc:subject/>
  <dc:title>Je veľký náš Pán, on slávy je Kráľ Nech do všetkých strán  spev vrúcnych znie chvál.</dc:title>
</cp:coreProperties>
</file>